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02CD5-5A3D-455C-83CF-674223494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D60AC-8E02-4014-8BBA-4DB2EE5EF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1FA98-84A3-4F48-92A5-3ECBED4BF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F8A6-A206-4BA8-A1A9-818E4F373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B8FD-77C2-4F44-831C-A2FE5ED51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726EA-3905-463B-A74E-E6A5F4DDE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DD718-510E-4459-B3C8-DC67C899D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9123-B729-43C9-A639-5D76CF03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B4CE8-90DD-4885-9EC1-77DAE444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FE71-8117-4F28-A710-84DE37994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8EE6-7326-4A76-9F8E-7798F89D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1F7A-7ECE-4D6D-8098-4D9C85699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F555B9D8-1F24-4B4B-871C-C04C34E8F120}"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00120" y="106200"/>
            <a:ext cx="6472080" cy="177840"/>
          </a:xfrm>
          <a:prstGeom prst="rect">
            <a:avLst/>
          </a:prstGeom>
          <a:solidFill>
            <a:srgbClr val="bcbc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73120" y="5510160"/>
            <a:ext cx="6215040" cy="203400"/>
          </a:xfrm>
          <a:prstGeom prst="rect">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36920" y="6888240"/>
            <a:ext cx="479520" cy="853920"/>
          </a:xfrm>
          <a:prstGeom prst="rect">
            <a:avLst/>
          </a:prstGeom>
          <a:ln w="0">
            <a:noFill/>
          </a:ln>
        </p:spPr>
      </p:pic>
      <p:sp>
        <p:nvSpPr>
          <p:cNvPr id="44" name="Oval 617"/>
          <p:cNvSpPr/>
          <p:nvPr/>
        </p:nvSpPr>
        <p:spPr>
          <a:xfrm>
            <a:off x="3681360" y="589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35200" y="595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392640" y="602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54400" y="61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30560" y="6202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25800" y="632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35440" y="6445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887560" y="660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49400" y="6764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35360" y="6935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06560" y="716436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06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01880" y="7574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79720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0656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1160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30680" y="8202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54440" y="8354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882880" y="851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21040" y="866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73240" y="882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04640" y="90468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70240" y="927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390840" y="94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69396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882960" y="9631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76640" y="9628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65640" y="9588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37000" y="9512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75240" y="9398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697280" y="926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25080" y="904608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21200" y="8821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73760" y="8664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06880" y="85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40360" y="835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59440" y="8197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7852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087880" y="788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092560" y="7726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097600" y="7564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092560" y="739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78160" y="715464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38800" y="67179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68360" y="6102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083200" y="6926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73480" y="6757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32440" y="6603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68720" y="6464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886280" y="633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78280" y="621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54440" y="6111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03600" y="6029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56000" y="5964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194000" y="589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27480" y="6280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03800" y="6405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76240" y="593244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16040" y="599436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03" name="Line 677"/>
          <p:cNvSpPr/>
          <p:nvPr/>
        </p:nvSpPr>
        <p:spPr>
          <a:xfrm flipH="1">
            <a:off x="3277800" y="606420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58640" y="61452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63600" y="624528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72880" y="636444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30040" y="648324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882520" y="665496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68120" y="6797520"/>
            <a:ext cx="24120" cy="17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54080" y="698328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44360" y="726444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39680" y="74595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40040" y="7631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35360" y="778824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44720" y="7940520"/>
            <a:ext cx="972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49400" y="807876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68480" y="8231040"/>
            <a:ext cx="2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892600" y="840276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25720" y="85550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59200" y="870732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11400" y="887400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182760" y="914076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05160" y="9317160"/>
            <a:ext cx="120600" cy="12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25760" y="9451800"/>
            <a:ext cx="13356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60760" y="95616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14640" y="9666000"/>
            <a:ext cx="1954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127" name="Line 701"/>
          <p:cNvSpPr/>
          <p:nvPr/>
        </p:nvSpPr>
        <p:spPr>
          <a:xfrm flipV="1">
            <a:off x="4113360" y="962820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08480" y="9548280"/>
            <a:ext cx="16020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29" name="Line 703"/>
          <p:cNvSpPr/>
          <p:nvPr/>
        </p:nvSpPr>
        <p:spPr>
          <a:xfrm flipV="1">
            <a:off x="4471920" y="9437760"/>
            <a:ext cx="139680" cy="11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16280" y="93027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30400" y="9155160"/>
            <a:ext cx="11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26000" y="963936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133" name="Line 707"/>
          <p:cNvSpPr/>
          <p:nvPr/>
        </p:nvSpPr>
        <p:spPr>
          <a:xfrm flipH="1">
            <a:off x="4897080" y="885024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54680" y="86932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13000" y="85424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49720" y="839304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78160" y="8245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097240" y="8083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11640" y="792648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25680" y="776916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30360" y="760716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30720" y="744048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26040" y="72738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21360" y="69642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10200" y="67867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78520" y="664524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02200" y="64976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16520" y="635940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797360" y="623556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684680" y="614520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35640" y="606744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52" name="Line 726"/>
          <p:cNvSpPr/>
          <p:nvPr/>
        </p:nvSpPr>
        <p:spPr>
          <a:xfrm>
            <a:off x="4379760" y="599436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45120" y="594036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57720" y="630072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43400" y="6446880"/>
            <a:ext cx="572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03880" y="658188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70240" y="61992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14840" y="587700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59" name="Line 733"/>
          <p:cNvSpPr/>
          <p:nvPr/>
        </p:nvSpPr>
        <p:spPr>
          <a:xfrm flipH="1" flipV="1">
            <a:off x="4055760" y="587232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26800" y="5807160"/>
            <a:ext cx="299520" cy="303840"/>
            <a:chOff x="3826800" y="5807160"/>
            <a:chExt cx="299520" cy="303840"/>
          </a:xfrm>
        </p:grpSpPr>
        <p:sp>
          <p:nvSpPr>
            <p:cNvPr id="161" name="Text Box 735"/>
            <p:cNvSpPr/>
            <p:nvPr/>
          </p:nvSpPr>
          <p:spPr>
            <a:xfrm>
              <a:off x="3826800" y="58114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13200" y="59259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78360" y="5830560"/>
              <a:ext cx="0" cy="8856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800" spc="-1" strike="noStrike">
                <a:solidFill>
                  <a:srgbClr val="000000"/>
                </a:solidFill>
                <a:latin typeface="Tahoma"/>
              </a:endParaRPr>
            </a:p>
          </p:txBody>
        </p:sp>
        <p:sp>
          <p:nvSpPr>
            <p:cNvPr id="164" name="Line 738"/>
            <p:cNvSpPr/>
            <p:nvPr/>
          </p:nvSpPr>
          <p:spPr>
            <a:xfrm>
              <a:off x="3943440" y="58654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892680" y="5807160"/>
              <a:ext cx="168120" cy="228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78000" y="6035040"/>
              <a:ext cx="903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800" spc="-1" strike="noStrike">
                <a:solidFill>
                  <a:srgbClr val="000000"/>
                </a:solidFill>
                <a:latin typeface="Tahoma"/>
              </a:endParaRPr>
            </a:p>
          </p:txBody>
        </p:sp>
      </p:grpSp>
      <p:sp>
        <p:nvSpPr>
          <p:cNvPr id="167" name="Line 741"/>
          <p:cNvSpPr/>
          <p:nvPr/>
        </p:nvSpPr>
        <p:spPr>
          <a:xfrm>
            <a:off x="4508640" y="683244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62480" y="6539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71960" y="6805440"/>
            <a:ext cx="30492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36880" y="654048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68560" y="624528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77800" y="635004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46360" y="60436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28600" y="5640120"/>
            <a:ext cx="157320" cy="1358640"/>
          </a:xfrm>
          <a:custGeom>
            <a:avLst/>
            <a:gdLst>
              <a:gd name="textAreaLeft" fmla="*/ 100440 w 157320"/>
              <a:gd name="textAreaRight" fmla="*/ 157680 w 157320"/>
              <a:gd name="textAreaTop" fmla="*/ 35280 h 1358640"/>
              <a:gd name="textAreaBottom" fmla="*/ 1323360 h 135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893680" y="701352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57400" y="68850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28960" y="7249680"/>
            <a:ext cx="12528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178" name="Line 21"/>
          <p:cNvSpPr/>
          <p:nvPr/>
        </p:nvSpPr>
        <p:spPr>
          <a:xfrm flipH="1">
            <a:off x="4062240" y="58104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49880" y="57070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295360" y="916452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67120" y="9155160"/>
            <a:ext cx="101520" cy="79200"/>
          </a:xfrm>
          <a:prstGeom prst="line">
            <a:avLst/>
          </a:prstGeom>
          <a:ln w="9360">
            <a:solidFill>
              <a:srgbClr val="000000"/>
            </a:solidFill>
            <a:miter/>
            <a:tailEnd len="sm" type="stealth" w="sm"/>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82" name="Text Box 25"/>
          <p:cNvSpPr/>
          <p:nvPr/>
        </p:nvSpPr>
        <p:spPr>
          <a:xfrm>
            <a:off x="4430880" y="9223200"/>
            <a:ext cx="12603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27680" y="916740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68760" y="7250040"/>
            <a:ext cx="711000" cy="64152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491000" y="72788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27320" y="861840"/>
            <a:ext cx="3449880" cy="43718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189000" y="2890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39720" y="549108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187200" y="5905440"/>
            <a:ext cx="22100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187200" y="7034040"/>
            <a:ext cx="220500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78320" y="592128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38800" y="8151840"/>
            <a:ext cx="21286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p:txBody>
      </p:sp>
      <p:sp>
        <p:nvSpPr>
          <p:cNvPr id="195" name="Text Box 43"/>
          <p:cNvSpPr/>
          <p:nvPr/>
        </p:nvSpPr>
        <p:spPr>
          <a:xfrm>
            <a:off x="5486400" y="7562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486400" y="71010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187200" y="8190000"/>
            <a:ext cx="2467080" cy="1350720"/>
          </a:xfrm>
          <a:prstGeom prst="rect">
            <a:avLst/>
          </a:prstGeom>
          <a:solidFill>
            <a:srgbClr val="bcbcb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40280" y="724392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11720" y="534348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37440" y="5427720"/>
            <a:ext cx="209520" cy="380880"/>
            <a:chOff x="7237440" y="5427720"/>
            <a:chExt cx="209520" cy="380880"/>
          </a:xfrm>
        </p:grpSpPr>
        <p:sp>
          <p:nvSpPr>
            <p:cNvPr id="201" name="Line 73"/>
            <p:cNvSpPr/>
            <p:nvPr/>
          </p:nvSpPr>
          <p:spPr>
            <a:xfrm>
              <a:off x="7237440" y="542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37440" y="555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37440" y="56815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37440" y="58086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345280" y="8744040"/>
            <a:ext cx="2122200" cy="431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lum contrast="60000"/>
          </a:blip>
          <a:stretch/>
        </p:blipFill>
        <p:spPr>
          <a:xfrm>
            <a:off x="3095640" y="1320840"/>
            <a:ext cx="826920" cy="1278000"/>
          </a:xfrm>
          <a:prstGeom prst="rect">
            <a:avLst/>
          </a:prstGeom>
          <a:ln w="0">
            <a:noFill/>
          </a:ln>
        </p:spPr>
      </p:pic>
      <p:sp>
        <p:nvSpPr>
          <p:cNvPr id="207" name="Text Box 91"/>
          <p:cNvSpPr/>
          <p:nvPr/>
        </p:nvSpPr>
        <p:spPr>
          <a:xfrm>
            <a:off x="3642120" y="930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
        <p:nvSpPr>
          <p:cNvPr id="208" name="Text Box 95"/>
          <p:cNvSpPr/>
          <p:nvPr/>
        </p:nvSpPr>
        <p:spPr>
          <a:xfrm>
            <a:off x="5396040" y="9218520"/>
            <a:ext cx="2206440" cy="40032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9" name="Text Box 96"/>
          <p:cNvSpPr/>
          <p:nvPr/>
        </p:nvSpPr>
        <p:spPr>
          <a:xfrm>
            <a:off x="5264280" y="91854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10" name="Text Box 98"/>
          <p:cNvSpPr/>
          <p:nvPr/>
        </p:nvSpPr>
        <p:spPr>
          <a:xfrm rot="16200000">
            <a:off x="2576160" y="21171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1" name="Line 743"/>
          <p:cNvSpPr/>
          <p:nvPr/>
        </p:nvSpPr>
        <p:spPr>
          <a:xfrm>
            <a:off x="2830680" y="618336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2" name="Oval 744"/>
          <p:cNvSpPr/>
          <p:nvPr/>
        </p:nvSpPr>
        <p:spPr>
          <a:xfrm>
            <a:off x="3529080" y="9523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3" name="Line 747"/>
          <p:cNvSpPr/>
          <p:nvPr/>
        </p:nvSpPr>
        <p:spPr>
          <a:xfrm flipV="1">
            <a:off x="4021200" y="65502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4" name="Text Box 751"/>
          <p:cNvSpPr/>
          <p:nvPr/>
        </p:nvSpPr>
        <p:spPr>
          <a:xfrm>
            <a:off x="3714840" y="619596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5" name="Line 752"/>
          <p:cNvSpPr/>
          <p:nvPr/>
        </p:nvSpPr>
        <p:spPr>
          <a:xfrm flipV="1">
            <a:off x="3898800" y="621360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6" name="Line 755"/>
          <p:cNvSpPr/>
          <p:nvPr/>
        </p:nvSpPr>
        <p:spPr>
          <a:xfrm flipV="1">
            <a:off x="4046400" y="626112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7" name="Line 756"/>
          <p:cNvSpPr/>
          <p:nvPr/>
        </p:nvSpPr>
        <p:spPr>
          <a:xfrm flipV="1">
            <a:off x="4251240" y="68230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8" name="Line 759"/>
          <p:cNvSpPr/>
          <p:nvPr/>
        </p:nvSpPr>
        <p:spPr>
          <a:xfrm flipV="1">
            <a:off x="4917960" y="72565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9" name="Line 760"/>
          <p:cNvSpPr/>
          <p:nvPr/>
        </p:nvSpPr>
        <p:spPr>
          <a:xfrm flipV="1">
            <a:off x="4211640" y="72644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0" name="Line 766"/>
          <p:cNvSpPr/>
          <p:nvPr/>
        </p:nvSpPr>
        <p:spPr>
          <a:xfrm>
            <a:off x="4575240" y="700740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800" spc="-1" strike="noStrike">
              <a:solidFill>
                <a:srgbClr val="000000"/>
              </a:solidFill>
              <a:latin typeface="Tahoma"/>
            </a:endParaRPr>
          </a:p>
        </p:txBody>
      </p:sp>
      <p:sp>
        <p:nvSpPr>
          <p:cNvPr id="221" name="Oval 767"/>
          <p:cNvSpPr/>
          <p:nvPr/>
        </p:nvSpPr>
        <p:spPr>
          <a:xfrm>
            <a:off x="4525920" y="693576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2" name="AutoShape 762"/>
          <p:cNvSpPr/>
          <p:nvPr/>
        </p:nvSpPr>
        <p:spPr>
          <a:xfrm>
            <a:off x="4487760" y="714204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3" name="AutoShape 763"/>
          <p:cNvSpPr/>
          <p:nvPr/>
        </p:nvSpPr>
        <p:spPr>
          <a:xfrm>
            <a:off x="4494240" y="71834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4" name="AutoShape 764"/>
          <p:cNvSpPr/>
          <p:nvPr/>
        </p:nvSpPr>
        <p:spPr>
          <a:xfrm>
            <a:off x="4503600" y="719604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5" name="Line 765"/>
          <p:cNvSpPr/>
          <p:nvPr/>
        </p:nvSpPr>
        <p:spPr>
          <a:xfrm>
            <a:off x="4575240" y="704520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6" name="Line 768"/>
          <p:cNvSpPr/>
          <p:nvPr/>
        </p:nvSpPr>
        <p:spPr>
          <a:xfrm>
            <a:off x="4494240" y="723420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7" name="Line 770"/>
          <p:cNvSpPr/>
          <p:nvPr/>
        </p:nvSpPr>
        <p:spPr>
          <a:xfrm>
            <a:off x="4524480" y="72327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1"/>
          <p:cNvSpPr/>
          <p:nvPr/>
        </p:nvSpPr>
        <p:spPr>
          <a:xfrm>
            <a:off x="4610160" y="723096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9" name="Line 772"/>
          <p:cNvSpPr/>
          <p:nvPr/>
        </p:nvSpPr>
        <p:spPr>
          <a:xfrm flipH="1">
            <a:off x="4615920" y="72374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0" name="Line 774"/>
          <p:cNvSpPr/>
          <p:nvPr/>
        </p:nvSpPr>
        <p:spPr>
          <a:xfrm flipH="1">
            <a:off x="4565160" y="760896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1" name="Line 775"/>
          <p:cNvSpPr/>
          <p:nvPr/>
        </p:nvSpPr>
        <p:spPr>
          <a:xfrm flipH="1">
            <a:off x="4390920" y="72295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2" name="Line 776"/>
          <p:cNvSpPr/>
          <p:nvPr/>
        </p:nvSpPr>
        <p:spPr>
          <a:xfrm flipH="1" flipV="1">
            <a:off x="4727520" y="723384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800" spc="-1" strike="noStrike">
              <a:solidFill>
                <a:srgbClr val="000000"/>
              </a:solidFill>
              <a:latin typeface="Tahoma"/>
            </a:endParaRPr>
          </a:p>
        </p:txBody>
      </p:sp>
      <p:sp>
        <p:nvSpPr>
          <p:cNvPr id="233" name="Line 778"/>
          <p:cNvSpPr/>
          <p:nvPr/>
        </p:nvSpPr>
        <p:spPr>
          <a:xfrm>
            <a:off x="4691160" y="72518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4" name="Line 779"/>
          <p:cNvSpPr/>
          <p:nvPr/>
        </p:nvSpPr>
        <p:spPr>
          <a:xfrm>
            <a:off x="4467240" y="720576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235" name="Line 780"/>
          <p:cNvSpPr/>
          <p:nvPr/>
        </p:nvSpPr>
        <p:spPr>
          <a:xfrm>
            <a:off x="4546440" y="748656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6" name="Group 785"/>
          <p:cNvGrpSpPr/>
          <p:nvPr/>
        </p:nvGrpSpPr>
        <p:grpSpPr>
          <a:xfrm>
            <a:off x="4402080" y="7232760"/>
            <a:ext cx="55440" cy="20160"/>
            <a:chOff x="4402080" y="7232760"/>
            <a:chExt cx="55440" cy="20160"/>
          </a:xfrm>
        </p:grpSpPr>
        <p:sp>
          <p:nvSpPr>
            <p:cNvPr id="237" name="Line 777"/>
            <p:cNvSpPr/>
            <p:nvPr/>
          </p:nvSpPr>
          <p:spPr>
            <a:xfrm>
              <a:off x="4425840" y="72342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3"/>
            <p:cNvSpPr/>
            <p:nvPr/>
          </p:nvSpPr>
          <p:spPr>
            <a:xfrm>
              <a:off x="4412880" y="72327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9" name="Line 784"/>
            <p:cNvSpPr/>
            <p:nvPr/>
          </p:nvSpPr>
          <p:spPr>
            <a:xfrm>
              <a:off x="4402080" y="72327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40" name="Line 788"/>
          <p:cNvSpPr/>
          <p:nvPr/>
        </p:nvSpPr>
        <p:spPr>
          <a:xfrm>
            <a:off x="651348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1" name="Text Box 789"/>
          <p:cNvSpPr/>
          <p:nvPr/>
        </p:nvSpPr>
        <p:spPr>
          <a:xfrm flipH="1">
            <a:off x="82440" y="955512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2" name="Text Box 790"/>
          <p:cNvSpPr/>
          <p:nvPr/>
        </p:nvSpPr>
        <p:spPr>
          <a:xfrm>
            <a:off x="3927600" y="52927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3" name="Text Box 791"/>
          <p:cNvSpPr/>
          <p:nvPr/>
        </p:nvSpPr>
        <p:spPr>
          <a:xfrm>
            <a:off x="360360" y="526248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4" name="Text Box 792"/>
          <p:cNvSpPr/>
          <p:nvPr/>
        </p:nvSpPr>
        <p:spPr>
          <a:xfrm>
            <a:off x="141840" y="2811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5"/>
          <p:cNvSpPr/>
          <p:nvPr/>
        </p:nvSpPr>
        <p:spPr>
          <a:xfrm>
            <a:off x="224280" y="52754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6" name="Text Box 796"/>
          <p:cNvSpPr/>
          <p:nvPr/>
        </p:nvSpPr>
        <p:spPr>
          <a:xfrm>
            <a:off x="709200" y="1191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7" name="Line 806"/>
          <p:cNvSpPr/>
          <p:nvPr/>
        </p:nvSpPr>
        <p:spPr>
          <a:xfrm>
            <a:off x="554184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8" name="Picture 808" descr="Our Lady of Guadalupe 1"/>
          <p:cNvPicPr/>
          <p:nvPr/>
        </p:nvPicPr>
        <p:blipFill>
          <a:blip r:embed="rId3"/>
          <a:stretch/>
        </p:blipFill>
        <p:spPr>
          <a:xfrm>
            <a:off x="3560760" y="7529400"/>
            <a:ext cx="982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49:07Z</dcterms:modified>
  <cp:revision>343</cp:revision>
  <dc:subject/>
  <dc:title>Slide 1</dc:title>
</cp:coreProperties>
</file>